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E83-6EF5-4C89-A1E0-21D3D7C1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B66-B5EF-4853-88A5-37DAAE21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65F-5522-421E-BB7E-FFE59E37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619-368F-4EA6-AF6A-096878F5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184-6C4F-42BC-A8FF-1218B578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7D9-D7AD-4B3E-A1C2-1C33975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325-A51C-41F1-B36A-255CE60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DA1-9093-45C0-B34D-6259DB4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ED0-290A-4A3F-95DE-27C8289E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172-03AD-43A9-96DA-BAC6792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45D-BD44-4560-AA92-50C28A5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145-830B-48F4-9934-F506132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9B54-FBA6-4B48-BD58-021C83FFB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orema lui Th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za geometr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a  VI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2400" y="54403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cu Io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3024360" cy="194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61440" y="299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3440" y="4508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9440" y="4581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6760" y="549360"/>
            <a:ext cx="462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 ABC un triunghi oarecar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86064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4005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2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56720" y="284040"/>
            <a:ext cx="23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’C’ ║ B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9800" y="1052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9080" y="33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7800" y="33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20500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20500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4520" y="5445000"/>
            <a:ext cx="215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      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2421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2560" y="421488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tun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8520" y="3571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56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43480" y="6087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eaz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’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D ┴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M ┴ B’C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ş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N ┴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57200" y="32130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4360" y="1695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8360" y="414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720" y="414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997360"/>
            <a:ext cx="4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2781360"/>
            <a:ext cx="4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940360" y="2708280"/>
            <a:ext cx="1295640" cy="720720"/>
          </a:xfrm>
          <a:prstGeom prst="line">
            <a:avLst/>
          </a:prstGeom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372360" y="2781000"/>
            <a:ext cx="1295280" cy="647640"/>
          </a:xfrm>
          <a:prstGeom prst="line">
            <a:avLst/>
          </a:prstGeom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088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65640" y="22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9272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31708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76360" y="3429000"/>
            <a:ext cx="863640" cy="0"/>
          </a:xfrm>
          <a:prstGeom prst="line">
            <a:avLst/>
          </a:prstGeom>
          <a:ln cap="rnd" w="93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40720" y="3429000"/>
            <a:ext cx="863640" cy="0"/>
          </a:xfrm>
          <a:prstGeom prst="line">
            <a:avLst/>
          </a:prstGeom>
          <a:ln w="93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5080" y="2852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45440" y="29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21080" y="3357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29440" y="3357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249228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8520" y="242100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1222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916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5440" y="1652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1844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0160" y="136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13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1320" y="93348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98240" y="186840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349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440" y="237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5440" y="1652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880" y="14367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4880" y="18684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1560" y="172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3080" y="429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7240" y="410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4365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28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744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7440" y="378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4960" y="33814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B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2400" y="43894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B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744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360" y="4743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4160" y="410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5040" y="38862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5760" y="43178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744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00480" y="402444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C’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C’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1440" y="15699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2040" y="113832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360" y="156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7800" y="1353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59080" y="15699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3080" y="156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26760" y="11383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4680" y="981000"/>
            <a:ext cx="38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’C’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’B’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333360"/>
            <a:ext cx="47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dreptunghiul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BCN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BM ═ 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95800" y="2655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14680" y="22240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14680" y="272880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0520" y="2440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51800" y="2655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2160" y="2146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71040" y="2728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61960" y="2440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4520" y="2440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34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2880" y="3429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800" y="393372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+ 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980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9600" y="350028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005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5240" y="407664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+ 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3789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7800" y="3500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6880" y="4005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8360" y="3789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160" y="342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0880" y="40766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24210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 (1), (2), (3) 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60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dreptunghiul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CN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BM ═ C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17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2240" y="134136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8892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8360" y="1557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7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3364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6960" y="1341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05240" y="1184400"/>
            <a:ext cx="38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’C’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’B’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6165720"/>
            <a:ext cx="58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84360" y="2781000"/>
            <a:ext cx="26640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781360"/>
            <a:ext cx="32400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4724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484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388360" y="4508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90000" y="234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34000" y="579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84920" y="579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29640" y="4143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74000" y="41432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60560" y="4214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442360" y="4214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 (1), (2), (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10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30520" y="62064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30520" y="112536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6360" y="836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052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38000" y="542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6520" y="1125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800" y="836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83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2200" y="18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2852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8880" y="227664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6520" y="2852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+ 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5800" y="26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6880" y="23493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285264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5600" y="292428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+ 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59480" y="2558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3480" y="4430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47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34360" y="40244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2520" y="46767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720" y="4508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2160" y="4221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4160" y="4797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11:06Z</dcterms:created>
  <dc:creator>xxx</dc:creator>
  <dc:description/>
  <dc:language>en-US</dc:language>
  <cp:lastModifiedBy>xxx</cp:lastModifiedBy>
  <dcterms:modified xsi:type="dcterms:W3CDTF">2011-02-24T21:15:01Z</dcterms:modified>
  <cp:revision>4</cp:revision>
  <dc:subject/>
  <dc:title>Teorema lui Thales</dc:title>
</cp:coreProperties>
</file>